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AD8-C27F-45C4-A9E3-E2BD5202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820-BC02-493A-90FB-83E5703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B37-C6A1-4A2B-9F4D-E0B6FF0C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A31-77AC-4D9F-9F82-DC749117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7AAA-9B44-43E9-B553-E6B11DD0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E4A4-B829-4344-8FBE-9E8FCEFF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82D1-6AE7-4F24-A19F-FC0E708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DBB-646B-4743-852D-FE8B052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F01E-8484-49D0-AAFF-7DD2EA86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FD12-F939-427C-88E1-C83732ED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875-251E-40FF-8193-0514434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030-ADA6-4F57-970B-A3B8E90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C56B-1E1F-4ACD-B6D3-C06683A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A0D6-CB3D-4615-ABF6-22977D76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7A7D-3D97-491A-8BE6-CDE39A8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97FB-ED40-4BC2-932A-2A68A3A6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BF4C-239A-4E24-ABB9-E5F6628E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8F9D-F45E-4B86-B032-15F524D4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B7E2-7601-4359-A395-4CDD9EB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DF3B-02B9-4005-AA5C-11A8030C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ACC8-BC03-4FA5-BA3F-323AD61A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A88C-E627-497D-AF8F-E0B1874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226-E979-4842-8AFB-CAEC5160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C3FF-AD7D-41D4-8FC5-A5618BF0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3931-FDB9-425C-B5D1-14857DA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7894-F409-4C2B-A6E5-6803626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468C-585F-457C-A76C-3EF4400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10E8-79F8-41B4-AF46-42FFAF1B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F8B5-E342-4264-A52F-4F11BCD0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E006-CED1-4C25-971E-80EA2CD2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761-D51D-41A2-BD12-F06AF6CD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B06-43E8-4C63-AA10-6E58FC0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6F3-6E40-45AA-AEDD-B241DC1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57A-3771-4F92-9DA0-E4379A8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2F6-1628-4E7D-8A6F-16F97F8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032-0B2C-4C67-A01B-0D0748D6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566F-0491-4112-8B6D-38137BFBC99A}" type="datetime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6BF1-DD4F-44DC-871D-8F53AA917CF0}" type="slidenum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6" descr=""/>
          <p:cNvPicPr/>
          <p:nvPr/>
        </p:nvPicPr>
        <p:blipFill>
          <a:blip r:embed="rId2"/>
          <a:stretch/>
        </p:blipFill>
        <p:spPr>
          <a:xfrm>
            <a:off x="7812000" y="117360"/>
            <a:ext cx="1073160" cy="90036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7" descr=""/>
          <p:cNvPicPr/>
          <p:nvPr/>
        </p:nvPicPr>
        <p:blipFill>
          <a:blip r:embed="rId3"/>
          <a:stretch/>
        </p:blipFill>
        <p:spPr>
          <a:xfrm>
            <a:off x="4643280" y="117360"/>
            <a:ext cx="1108080" cy="9003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8" descr=""/>
          <p:cNvPicPr/>
          <p:nvPr/>
        </p:nvPicPr>
        <p:blipFill>
          <a:blip r:embed="rId4"/>
          <a:stretch/>
        </p:blipFill>
        <p:spPr>
          <a:xfrm>
            <a:off x="6156360" y="117360"/>
            <a:ext cx="1306440" cy="90036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9" descr=""/>
          <p:cNvPicPr/>
          <p:nvPr/>
        </p:nvPicPr>
        <p:blipFill>
          <a:blip r:embed="rId5"/>
          <a:stretch/>
        </p:blipFill>
        <p:spPr>
          <a:xfrm>
            <a:off x="250920" y="123840"/>
            <a:ext cx="717480" cy="90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CBB7-B504-4C1D-B245-BD24A419280E}" type="datetime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620-A300-4291-B7B9-08307D0A38B0}" type="slidenum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ok 6" descr=""/>
          <p:cNvPicPr/>
          <p:nvPr/>
        </p:nvPicPr>
        <p:blipFill>
          <a:blip r:embed="rId2"/>
          <a:stretch/>
        </p:blipFill>
        <p:spPr>
          <a:xfrm>
            <a:off x="7812000" y="117360"/>
            <a:ext cx="1073160" cy="900360"/>
          </a:xfrm>
          <a:prstGeom prst="rect">
            <a:avLst/>
          </a:prstGeom>
          <a:ln w="0">
            <a:noFill/>
          </a:ln>
        </p:spPr>
      </p:pic>
      <p:pic>
        <p:nvPicPr>
          <p:cNvPr id="87" name="Obrázok 7" descr=""/>
          <p:cNvPicPr/>
          <p:nvPr/>
        </p:nvPicPr>
        <p:blipFill>
          <a:blip r:embed="rId3"/>
          <a:stretch/>
        </p:blipFill>
        <p:spPr>
          <a:xfrm>
            <a:off x="4643280" y="117360"/>
            <a:ext cx="1108080" cy="900360"/>
          </a:xfrm>
          <a:prstGeom prst="rect">
            <a:avLst/>
          </a:prstGeom>
          <a:ln w="0">
            <a:noFill/>
          </a:ln>
        </p:spPr>
      </p:pic>
      <p:pic>
        <p:nvPicPr>
          <p:cNvPr id="88" name="Obrázok 8" descr=""/>
          <p:cNvPicPr/>
          <p:nvPr/>
        </p:nvPicPr>
        <p:blipFill>
          <a:blip r:embed="rId4"/>
          <a:stretch/>
        </p:blipFill>
        <p:spPr>
          <a:xfrm>
            <a:off x="6156360" y="117360"/>
            <a:ext cx="1306440" cy="900360"/>
          </a:xfrm>
          <a:prstGeom prst="rect">
            <a:avLst/>
          </a:prstGeom>
          <a:ln w="0">
            <a:noFill/>
          </a:ln>
        </p:spPr>
      </p:pic>
      <p:pic>
        <p:nvPicPr>
          <p:cNvPr id="89" name="Obrázok 9" descr=""/>
          <p:cNvPicPr/>
          <p:nvPr/>
        </p:nvPicPr>
        <p:blipFill>
          <a:blip r:embed="rId5"/>
          <a:stretch/>
        </p:blipFill>
        <p:spPr>
          <a:xfrm>
            <a:off x="250920" y="123840"/>
            <a:ext cx="717480" cy="90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887F-9D73-481E-BDE3-647831142885}" type="datetime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0BF-76AF-4FC9-9160-924A99EEAA17}" type="slidenum">
              <a:rPr b="0" lang="sk-SK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Y.YY@enviro.gov.sk" TargetMode="External"/><Relationship Id="rId2" Type="http://schemas.openxmlformats.org/officeDocument/2006/relationships/hyperlink" Target="mailto:SY.YY@enviro.gov.sk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77933c"/>
                </a:solidFill>
                <a:latin typeface="Calibri"/>
              </a:rPr>
              <a:t>9. ZASADNUTIE MONITOROVACIEHO VÝBOR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77933c"/>
                </a:solidFill>
                <a:latin typeface="Calibri"/>
              </a:rPr>
              <a:t>PRE OPERAČNÝ PROGRAM ŽIVOTNÉ PROSTRE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100" spc="-1" strike="noStrike">
                <a:solidFill>
                  <a:srgbClr val="4f6228"/>
                </a:solidFill>
                <a:latin typeface="Calibri"/>
              </a:rPr>
              <a:t>INFORMÁCIA O VÝSLEDKOCH IMPLEMENTÁCIE OPŽP </a:t>
            </a:r>
            <a:br>
              <a:rPr sz="4100"/>
            </a:br>
            <a:r>
              <a:rPr b="0" lang="sk-SK" sz="4100" spc="-1" strike="noStrike">
                <a:solidFill>
                  <a:srgbClr val="4f6228"/>
                </a:solidFill>
                <a:latin typeface="Calibri"/>
              </a:rPr>
              <a:t>(K 31.5.2012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300" spc="-1" strike="noStrike">
                <a:solidFill>
                  <a:srgbClr val="000000"/>
                </a:solidFill>
                <a:latin typeface="Calibri"/>
              </a:rPr>
              <a:t>Ministerstvo životného prostredia Slovenskej republik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Calibri"/>
              </a:rPr>
              <a:t>Riadiaci orgán pre operačný program Životné prostred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Calibri"/>
              </a:rPr>
              <a:t>14. jún 2012, Bratislav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VYHLÁSENÉ VÝZV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bjem: 2,376 mld.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celkový počet: 46 (44 uzavretých, 2 aktuálne otvorené výzv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527832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AKTUÁLNE OTVORENÉ VÝZV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39640" y="2876400"/>
            <a:ext cx="822960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PRIJATÉ ŽIADOSTI O NF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objem: 5 34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.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poče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26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619280" y="3006720"/>
            <a:ext cx="6337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SCHVÁLENÉ ŽIADOSTI O NF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v objeme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,549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ld. EUR (cca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3,85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% z celkovej alokáci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če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63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63840" y="2997360"/>
            <a:ext cx="5968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1500"/>
            </a:br>
            <a:r>
              <a:rPr b="1" lang="sk-SK" sz="3000" spc="-1" strike="noStrike">
                <a:solidFill>
                  <a:srgbClr val="4f6228"/>
                </a:solidFill>
                <a:latin typeface="Calibri"/>
              </a:rPr>
              <a:t>AKTUÁLNY STAV IMPLEMENTÁCIE – FINANČNÝ PREHĽAD V MIL. EUR</a:t>
            </a:r>
            <a:br>
              <a:rPr sz="48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361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sk-SK" sz="3000" spc="-1" strike="noStrike">
                <a:solidFill>
                  <a:srgbClr val="4f6228"/>
                </a:solidFill>
                <a:latin typeface="Calibri"/>
              </a:rPr>
              <a:t>NAJČASTEJŠIE DÔVODY VYLÚČENIA </a:t>
            </a:r>
            <a:br>
              <a:rPr sz="3000"/>
            </a:br>
            <a:r>
              <a:rPr b="1" lang="sk-SK" sz="3000" spc="-1" strike="noStrike">
                <a:solidFill>
                  <a:srgbClr val="4f6228"/>
                </a:solidFill>
                <a:latin typeface="Calibri"/>
              </a:rPr>
              <a:t>ŽIADOSTÍ O NFP</a:t>
            </a: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plnenie kritérií kontroly formálnej správno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oprávnenosti žiadateľa alebo aktivity žiadosti o NF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preukázanie vysporiadania majetkovo-právnych vzťahov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k nehnuteľnostiam súvisiacim s aktivitami žiadosti o NF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loženie povinných príloh žiadosti o NFP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loženie požadovaných dokumentov v stanovenom termí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úlad so schémou štátnej pomoc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úlad s podmienkami záložného práva stanovenými vo výzve na predkladanie žiadostí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plnenie kritérií odborného hodnot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f6228"/>
                </a:solidFill>
                <a:latin typeface="Calibri"/>
              </a:rPr>
              <a:t>ĎAKUJEM ZA POZORNOSŤ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k-SK" sz="2000" spc="-1" strike="noStrike">
                <a:solidFill>
                  <a:srgbClr val="77933c"/>
                </a:solidFill>
                <a:latin typeface="Calibri"/>
              </a:rPr>
              <a:t>Ing. Martin Húska</a:t>
            </a:r>
            <a:br>
              <a:rPr sz="2000"/>
            </a:br>
            <a:r>
              <a:rPr b="0" lang="sk-SK" sz="2000" spc="-1" strike="noStrike">
                <a:solidFill>
                  <a:srgbClr val="77933c"/>
                </a:solidFill>
                <a:latin typeface="Calibri"/>
              </a:rPr>
              <a:t>sekcia environmentálnych programov a projektov MŽP S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k-SK" sz="2000" spc="-1" strike="noStrike">
                <a:solidFill>
                  <a:srgbClr val="4f6228"/>
                </a:solidFill>
                <a:latin typeface="Calibri"/>
              </a:rPr>
              <a:t>emailový kontakt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sk-SK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rtin.huska@enviro.gov.sk</a:t>
            </a:r>
            <a:br>
              <a:rPr sz="2000"/>
            </a:br>
            <a:r>
              <a:rPr b="0" lang="sk-SK" sz="2000" spc="-1" strike="noStrike">
                <a:solidFill>
                  <a:srgbClr val="4f6228"/>
                </a:solidFill>
                <a:latin typeface="Calibri"/>
              </a:rPr>
              <a:t>telefonický kontakt: 02/5956 23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2:51:42Z</dcterms:created>
  <dc:creator>Slováková Zdenka</dc:creator>
  <dc:description/>
  <dc:language>en-US</dc:language>
  <cp:lastModifiedBy>Hrušková Miroslava</cp:lastModifiedBy>
  <dcterms:modified xsi:type="dcterms:W3CDTF">2012-06-13T19:59:46Z</dcterms:modified>
  <cp:revision>41</cp:revision>
  <dc:subject/>
  <dc:title>Názov prednášky</dc:title>
</cp:coreProperties>
</file>