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F8B4-4397-4DA1-A832-3E87226CF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60E8-6C31-4DB9-A4F9-BB8DFFCE826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7323F-0014-43E9-BAF9-C3CC6FC15F6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68A8-B545-4B6B-8F17-F279440C5C8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B79B-9A69-49B0-897B-0248F221A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DECF-6488-4D9D-9E8D-8E177BE491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FF91-1D00-492E-9F8F-D51D1479764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25A1-9995-496E-BA6C-C38A10E9D61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1F91-245A-4A07-93CF-22337515813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05BB-B4FC-488A-A05A-2DF46DF89E8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AEF17-EE13-45E0-8640-674A15D8B03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F334-988C-4845-8A6F-3B770674EB6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67280" y="6453000"/>
            <a:ext cx="1019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B3AB-5CEC-40EB-A177-D497082A4260}" type="slidenum">
              <a:rPr b="0" lang="sk-SK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Obrázok 7" descr=""/>
          <p:cNvPicPr/>
          <p:nvPr/>
        </p:nvPicPr>
        <p:blipFill>
          <a:blip r:embed="rId3"/>
          <a:stretch/>
        </p:blipFill>
        <p:spPr>
          <a:xfrm>
            <a:off x="0" y="3198960"/>
            <a:ext cx="9171000" cy="365904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9" descr=""/>
          <p:cNvPicPr/>
          <p:nvPr/>
        </p:nvPicPr>
        <p:blipFill>
          <a:blip r:embed="rId4"/>
          <a:stretch/>
        </p:blipFill>
        <p:spPr>
          <a:xfrm>
            <a:off x="595440" y="120600"/>
            <a:ext cx="717480" cy="900000"/>
          </a:xfrm>
          <a:prstGeom prst="rect">
            <a:avLst/>
          </a:prstGeom>
          <a:ln w="0">
            <a:noFill/>
          </a:ln>
        </p:spPr>
      </p:pic>
      <p:sp>
        <p:nvSpPr>
          <p:cNvPr id="43" name="Obdĺžnik 14"/>
          <p:cNvSpPr/>
          <p:nvPr/>
        </p:nvSpPr>
        <p:spPr>
          <a:xfrm>
            <a:off x="1498680" y="117360"/>
            <a:ext cx="4017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Calibri"/>
              </a:rPr>
              <a:t>MINISTERSTVO ŽIVOTNÉHO PROSTREDIA S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</a:rPr>
              <a:t>Sekcia environmentálnych programov a projekto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4200"/>
                </a:solidFill>
                <a:latin typeface="Calibri"/>
              </a:rPr>
              <a:t>Riadiaci orgán pre Operačný program Životné prostredi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</a:rPr>
              <a:t>Nám. Ľ. Štúra 1, 812 35  Bratisla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</a:rPr>
              <a:t>www.opzp.s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Obrázok 11" descr=""/>
          <p:cNvPicPr/>
          <p:nvPr/>
        </p:nvPicPr>
        <p:blipFill>
          <a:blip r:embed="rId5"/>
          <a:stretch/>
        </p:blipFill>
        <p:spPr>
          <a:xfrm>
            <a:off x="5837400" y="0"/>
            <a:ext cx="3054240" cy="122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Obrázok 7" descr=""/>
          <p:cNvPicPr/>
          <p:nvPr/>
        </p:nvPicPr>
        <p:blipFill>
          <a:blip r:embed="rId3"/>
          <a:stretch/>
        </p:blipFill>
        <p:spPr>
          <a:xfrm>
            <a:off x="3049560" y="189000"/>
            <a:ext cx="3176640" cy="542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777240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4f6228"/>
                </a:solidFill>
                <a:latin typeface="Calibri"/>
              </a:rPr>
              <a:t>INFORMÁCIA </a:t>
            </a:r>
            <a:br>
              <a:rPr sz="2800"/>
            </a:br>
            <a:r>
              <a:rPr b="1" lang="sk-SK" sz="2800" spc="-1" strike="noStrike">
                <a:solidFill>
                  <a:srgbClr val="4f6228"/>
                </a:solidFill>
                <a:latin typeface="Calibri"/>
              </a:rPr>
              <a:t>O AKTUÁLNOM STAVE IMPLEMENTÁCIE </a:t>
            </a:r>
            <a:br>
              <a:rPr sz="2800"/>
            </a:br>
            <a:r>
              <a:rPr b="1" lang="sk-SK" sz="2800" spc="-1" strike="noStrike">
                <a:solidFill>
                  <a:srgbClr val="4f6228"/>
                </a:solidFill>
                <a:latin typeface="Calibri"/>
              </a:rPr>
              <a:t>VEĽKÝCH PROJEKTOV OP ŽP</a:t>
            </a:r>
            <a:endParaRPr b="1" lang="en-US" sz="28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75" name="BlokTextu 3"/>
          <p:cNvSpPr/>
          <p:nvPr/>
        </p:nvSpPr>
        <p:spPr>
          <a:xfrm>
            <a:off x="4950720" y="4653000"/>
            <a:ext cx="410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14. zasadnut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onitorovacieho výbo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 Operačný program Životné prostred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25. júna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23800" y="7650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f6228"/>
                </a:solidFill>
                <a:latin typeface="Calibri"/>
              </a:rPr>
              <a:t>STAV IMPLEMENTÁCIE VEĽKÝCH PROJEKTOV K 15.6.2015</a:t>
            </a:r>
            <a:endParaRPr b="1" lang="en-US" sz="2400" spc="-1" strike="noStrike">
              <a:solidFill>
                <a:srgbClr val="4f6228"/>
              </a:solidFill>
              <a:latin typeface="Calibri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611280" y="1413000"/>
          <a:ext cx="7848360" cy="533376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2000"/>
                <a:gridCol w="1962000"/>
              </a:tblGrid>
              <a:tr h="6116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je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končenie prác </a:t>
                      </a: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rátane DN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tuálny st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ázovan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žombe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zický pokrok: 8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čný pokrok: 4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zický pokrok: 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čný pokrok: 4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nčí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/2017 </a:t>
                      </a:r>
                      <a:r>
                        <a:rPr b="0" lang="sk-SK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(10/20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zický pokrok: 7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čný pokrok: 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va II. et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zický pokrok: 7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čný pokrok: 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unajs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/20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zický pokrok: 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čný pokrok: 5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ČOV se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8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yzický pokrok: 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nančný pokrok: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tč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7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yzický pokrok: 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nančný pokrok: 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od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yzický pokrok: 6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nančný pokrok: 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 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oNFP podpísaná, prebiehajú V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53028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4f6228"/>
                </a:solidFill>
                <a:latin typeface="Calibri"/>
              </a:rPr>
              <a:t>ĎAKUJEM ZA POZORNOSŤ 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2:16:54Z</dcterms:created>
  <dc:creator>Slováková Zdenka</dc:creator>
  <dc:description/>
  <dc:language>en-US</dc:language>
  <cp:lastModifiedBy>Felcan Róbert</cp:lastModifiedBy>
  <cp:lastPrinted>2015-06-24T15:32:58Z</cp:lastPrinted>
  <dcterms:modified xsi:type="dcterms:W3CDTF">2015-06-24T16:12:42Z</dcterms:modified>
  <cp:revision>164</cp:revision>
  <dc:subject/>
  <dc:title>Prezentácia programu PowerPoint</dc:title>
</cp:coreProperties>
</file>