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DC69-8C7F-44A1-834D-F5C462686755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čísla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D8A-117D-4594-9249-1DA35DC8762E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Zástupný symbol čísla snímky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68E-ED90-4720-99AA-D2904A4FCCB0}" type="slidenum">
              <a:rPr b="0" lang="sk-S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AB91-9C1F-45E9-AD3F-828873FB5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6E1B-F914-4204-B8BA-F2A60CE87B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B0AF-9BF2-4049-94D1-3AF406912F3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2377-CC78-4A94-8FED-8164147392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043C-3664-40C5-A4A3-6B63231D7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1FE8-BE0C-47D2-B6EC-3C3CE4924F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B5BC-4777-4F82-94C1-CDD7E7ECEF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F88D-871A-4D08-8C88-68775979EB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4AB0-8212-4330-B687-883A58395B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6E98-7D3C-4020-BE40-105C954099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30B1-E9F5-4F2D-8979-58D754CBDD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63A5-BE20-475A-9F8B-462C200A84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0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0280" y="4110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7320" y="1628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028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47320" y="4110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272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5160" y="1628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3028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272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5160" y="4110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67280" y="6453000"/>
            <a:ext cx="1019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BBF-2D5E-4B75-8483-52803E7DDC2D}" type="slidenum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Obrázok 7" descr=""/>
          <p:cNvPicPr/>
          <p:nvPr/>
        </p:nvPicPr>
        <p:blipFill>
          <a:blip r:embed="rId3"/>
          <a:stretch/>
        </p:blipFill>
        <p:spPr>
          <a:xfrm>
            <a:off x="0" y="3198960"/>
            <a:ext cx="9171000" cy="365904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9" descr=""/>
          <p:cNvPicPr/>
          <p:nvPr/>
        </p:nvPicPr>
        <p:blipFill>
          <a:blip r:embed="rId4"/>
          <a:stretch/>
        </p:blipFill>
        <p:spPr>
          <a:xfrm>
            <a:off x="595440" y="120600"/>
            <a:ext cx="717480" cy="900000"/>
          </a:xfrm>
          <a:prstGeom prst="rect">
            <a:avLst/>
          </a:prstGeom>
          <a:ln w="0">
            <a:noFill/>
          </a:ln>
        </p:spPr>
      </p:pic>
      <p:sp>
        <p:nvSpPr>
          <p:cNvPr id="43" name="Obdĺžnik 14"/>
          <p:cNvSpPr/>
          <p:nvPr/>
        </p:nvSpPr>
        <p:spPr>
          <a:xfrm>
            <a:off x="1498680" y="117360"/>
            <a:ext cx="4017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Calibri"/>
              </a:rPr>
              <a:t>MINISTERSTVO ŽIVOTNÉHO PROSTREDIA S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Sekcia environmentálnych programov a projekto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4200"/>
                </a:solidFill>
                <a:latin typeface="Calibri"/>
              </a:rPr>
              <a:t>Riadiaci orgán pre Operačný program Životné prostred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Nám. Ľ. Štúra 1, 812 35  Bratisla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</a:rPr>
              <a:t>www.opzp.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ázok 11" descr=""/>
          <p:cNvPicPr/>
          <p:nvPr/>
        </p:nvPicPr>
        <p:blipFill>
          <a:blip r:embed="rId5"/>
          <a:stretch/>
        </p:blipFill>
        <p:spPr>
          <a:xfrm>
            <a:off x="5837400" y="0"/>
            <a:ext cx="30542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Obrázok 7" descr=""/>
          <p:cNvPicPr/>
          <p:nvPr/>
        </p:nvPicPr>
        <p:blipFill>
          <a:blip r:embed="rId3"/>
          <a:stretch/>
        </p:blipFill>
        <p:spPr>
          <a:xfrm>
            <a:off x="3049560" y="189000"/>
            <a:ext cx="3176640" cy="542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Obrázok 6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0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0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zp.sk/vyzvy/aktualne-vyzvy/vyzva-opzp-po3-14-1-z-04-07-2014/" TargetMode="External"/><Relationship Id="rId2" Type="http://schemas.openxmlformats.org/officeDocument/2006/relationships/hyperlink" Target="http://www.opzp.sk/vyzvy/aktualne-vyzvy/vyzva-opzp-po3-14-1-z-04-07-2014/" TargetMode="External"/><Relationship Id="rId3" Type="http://schemas.openxmlformats.org/officeDocument/2006/relationships/hyperlink" Target="http://www.opzp.sk/vyzvy/aktualne-vyzvy/vyzva-opzp-po3-14-1-z-04-07-2014/" TargetMode="External"/><Relationship Id="rId4" Type="http://schemas.openxmlformats.org/officeDocument/2006/relationships/hyperlink" Target="http://www.opzp.sk/vyzvy/aktualne-vyzvy/vyzva-opzp-po3-14-1-z-04-07-2014/" TargetMode="External"/><Relationship Id="rId5" Type="http://schemas.openxmlformats.org/officeDocument/2006/relationships/hyperlink" Target="http://www.opzp.sk/vyzvy/aktualne-vyzvy/vyzva-opzp-po3-14-1-z-04-07-2014/" TargetMode="External"/><Relationship Id="rId6" Type="http://schemas.openxmlformats.org/officeDocument/2006/relationships/hyperlink" Target="http://www.opzp.sk/vyzvy/aktualne-vyzvy/vyzva-opzp-po3-14-1-z-04-07-2014/" TargetMode="External"/><Relationship Id="rId7" Type="http://schemas.openxmlformats.org/officeDocument/2006/relationships/hyperlink" Target="http://www.opzp.sk/vyzvy/aktualne-vyzvy/vyzva-opzp-po3-14-1-z-04-07-2014/" TargetMode="External"/><Relationship Id="rId8" Type="http://schemas.openxmlformats.org/officeDocument/2006/relationships/hyperlink" Target="http://www.opzp.sk/vyzvy/aktualne-vyzvy/vyzva-opzp-po3-14-1-z-04-07-2014/" TargetMode="External"/><Relationship Id="rId9" Type="http://schemas.openxmlformats.org/officeDocument/2006/relationships/hyperlink" Target="http://www.opzp.sk/vyzvy/aktualne-vyzvy/vyzva-opzp-po3-14-1-z-04-07-2014/" TargetMode="External"/><Relationship Id="rId10" Type="http://schemas.openxmlformats.org/officeDocument/2006/relationships/hyperlink" Target="http://www.opzp.sk/vyzvy/aktualne-vyzvy/vyzva-opzp-po3-14-1-z-04-07-2014/" TargetMode="External"/><Relationship Id="rId11" Type="http://schemas.openxmlformats.org/officeDocument/2006/relationships/hyperlink" Target="http://www.opzp.sk/vyzvy/aktualne-vyzvy/vyzva-opzp-po3-14-1-z-04-07-2014/" TargetMode="External"/><Relationship Id="rId12" Type="http://schemas.openxmlformats.org/officeDocument/2006/relationships/hyperlink" Target="http://www.opzp.sk/vyzvy/aktualne-vyzvy/vyzva-opzp-po3-14-1-z-04-07-2014/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INFORMÁCIA </a:t>
            </a:r>
            <a:br>
              <a:rPr sz="2800"/>
            </a:b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O AKTUÁLNOM STAVE IMPLEMENTÁCIE </a:t>
            </a:r>
            <a:br>
              <a:rPr sz="2800"/>
            </a:b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OPERAČNÉHO PROGRAMU ŽIVOTNÉ PROSTREDIE A ČINNOSTI TASK FORCE</a:t>
            </a:r>
            <a:endParaRPr b="1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82" name="BlokTextu 3"/>
          <p:cNvSpPr/>
          <p:nvPr/>
        </p:nvSpPr>
        <p:spPr>
          <a:xfrm>
            <a:off x="4950720" y="4653000"/>
            <a:ext cx="410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14. zasadnut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onitorovacieho výbo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 Operačný program Životné prostred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25. júna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238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PREHĽAD AKTUÁLNEHO ČERPANIA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30280" y="2060280"/>
            <a:ext cx="8229600" cy="4321080"/>
          </a:xfrm>
          <a:prstGeom prst="rect">
            <a:avLst/>
          </a:prstGeom>
          <a:ln w="0">
            <a:noFill/>
          </a:ln>
        </p:spPr>
      </p:pic>
      <p:sp>
        <p:nvSpPr>
          <p:cNvPr id="510" name="BlokTextu 5"/>
          <p:cNvSpPr/>
          <p:nvPr/>
        </p:nvSpPr>
        <p:spPr>
          <a:xfrm>
            <a:off x="7458840" y="61516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MF SR a PJ OP Ž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BlokTextu 5"/>
          <p:cNvSpPr/>
          <p:nvPr/>
        </p:nvSpPr>
        <p:spPr>
          <a:xfrm>
            <a:off x="684360" y="152712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  <a:ea typeface="Arial"/>
              </a:rPr>
              <a:t>Porovnanie čerpania na úrovni MF SR a reálne uhradených žiadostí na úrovni PJ OP Ž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Obrázok 2" descr=""/>
          <p:cNvPicPr/>
          <p:nvPr/>
        </p:nvPicPr>
        <p:blipFill>
          <a:blip r:embed="rId2"/>
          <a:stretch/>
        </p:blipFill>
        <p:spPr>
          <a:xfrm>
            <a:off x="530280" y="2060640"/>
            <a:ext cx="8450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38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NEVYČERPANÁ ALOKÁCIA OP ŽP K 05.06.2015</a:t>
            </a:r>
            <a:endParaRPr b="1" lang="en-US" sz="36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55640" y="162828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Zostatok zatiaľ nevyčerpanej alokácie OP ŽP – 771 068 706 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Z toho vyčerpané a uhradené na úrovni RO (PJ OP ŽP) - </a:t>
            </a:r>
            <a:r>
              <a:rPr b="0" i="1" lang="sk-SK" sz="1600" spc="-1" strike="noStrike">
                <a:solidFill>
                  <a:srgbClr val="000000"/>
                </a:solidFill>
                <a:latin typeface="Calibri"/>
              </a:rPr>
              <a:t>65 163 254</a:t>
            </a: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  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BlokTextu 5"/>
          <p:cNvSpPr/>
          <p:nvPr/>
        </p:nvSpPr>
        <p:spPr>
          <a:xfrm>
            <a:off x="7603200" y="66628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MF SR a PJ OP Ž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Obrázok 2" descr=""/>
          <p:cNvPicPr/>
          <p:nvPr/>
        </p:nvPicPr>
        <p:blipFill>
          <a:blip r:embed="rId1"/>
          <a:stretch/>
        </p:blipFill>
        <p:spPr>
          <a:xfrm>
            <a:off x="755640" y="2182680"/>
            <a:ext cx="82058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ZÁVÄZOK ROKU 2012</a:t>
            </a:r>
            <a:endParaRPr b="1" lang="en-US" sz="3600" spc="-1" strike="noStrike">
              <a:solidFill>
                <a:srgbClr val="4f6228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417680" y="1341360"/>
          <a:ext cx="6730920" cy="1108080"/>
        </p:xfrm>
        <a:graphic>
          <a:graphicData uri="http://schemas.openxmlformats.org/drawingml/2006/table">
            <a:tbl>
              <a:tblPr/>
              <a:tblGrid>
                <a:gridCol w="1778040"/>
                <a:gridCol w="4952880"/>
              </a:tblGrid>
              <a:tr h="64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rebné vyčerpať za ŠF/KF do 31.12.2015 v zmysle pravidla n+3/n+2 (voči záväzku 2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 263 7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47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BlokTextu 4"/>
          <p:cNvSpPr/>
          <p:nvPr/>
        </p:nvSpPr>
        <p:spPr>
          <a:xfrm>
            <a:off x="1332000" y="242100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Calibri"/>
                <a:ea typeface="Arial"/>
              </a:rPr>
              <a:t>Zdroj :  MF SR  k 05.06.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Diagram 8" descr=""/>
          <p:cNvPicPr/>
          <p:nvPr/>
        </p:nvPicPr>
        <p:blipFill>
          <a:blip r:embed="rId1"/>
          <a:stretch/>
        </p:blipFill>
        <p:spPr>
          <a:xfrm>
            <a:off x="585720" y="2706840"/>
            <a:ext cx="82663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PREDPOKLAD VÝVOJA ČERPANIA DO 2015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22" name="Obdĺžnik 1"/>
          <p:cNvSpPr/>
          <p:nvPr/>
        </p:nvSpPr>
        <p:spPr>
          <a:xfrm>
            <a:off x="611280" y="6041880"/>
            <a:ext cx="8229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 u="sng">
                <a:solidFill>
                  <a:srgbClr val="000000"/>
                </a:solidFill>
                <a:uFillTx/>
                <a:latin typeface="Arial Narrow"/>
                <a:ea typeface="Calibri"/>
              </a:rPr>
              <a:t>Najväčšia časť čerpania projektov sa podľa údajov od prijímateľov kumuluje na posledný kvartál roku 2015, ktorý v tomto odhade zahrnutý nie j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Termín na odoslanie záverečnej žiadosti o platbu pre prijímateľov je najneskôr do 31.1.2016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028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Obrázok 2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84484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TASK FORCE EK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238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RO OP ŽP intenzívne spolupracovala s komunikoval s „TASK FORCE“ 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 rámci rokovaní boli identifikované viaceré „flexibility“, ktoré sú z pohľadu implementácie a čerpania finančných prostriedkov prínosné avšak nie všetky sú aplikovateľné pre OP Ž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b050"/>
                </a:solidFill>
                <a:uFillTx/>
                <a:latin typeface="Calibri"/>
              </a:rPr>
              <a:t>Využité flexibility ponúkané so strany TASK FORCE EK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ové projekt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oli a sú zazmluvňované v prioritných osiach č. 2, 3 a 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podrobnosti boli prezentované v časti o kontrahovan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Fázovanie veľkých projektov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ČOV Sever, ČOV Bytča, ČOV Bod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0 % flexibilita v kontrahovaní na úrovni prioritnej os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ožnosť flexibility bola zo strany RO zohľadnená vo vyhlásených výzvach v prioritných osiach č. 1 (Integrovaná ochrana a racionálne využívanie vôd) a č. 2 (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hrana pred povodňam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Možnosť uplatenia Ex ante korekc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Usmiata tvár 1"/>
          <p:cNvGrpSpPr/>
          <p:nvPr/>
        </p:nvGrpSpPr>
        <p:grpSpPr>
          <a:xfrm>
            <a:off x="5864400" y="2620800"/>
            <a:ext cx="871200" cy="811440"/>
            <a:chOff x="5864400" y="2620800"/>
            <a:chExt cx="871200" cy="811440"/>
          </a:xfrm>
        </p:grpSpPr>
        <p:pic>
          <p:nvPicPr>
            <p:cNvPr id="528" name="Usmiata tvár 1" descr=""/>
            <p:cNvPicPr/>
            <p:nvPr/>
          </p:nvPicPr>
          <p:blipFill>
            <a:blip r:embed="rId1"/>
            <a:stretch/>
          </p:blipFill>
          <p:spPr>
            <a:xfrm>
              <a:off x="5864400" y="2620800"/>
              <a:ext cx="8712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996160" y="2744640"/>
              <a:ext cx="609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BlokTextu 4"/>
          <p:cNvSpPr/>
          <p:nvPr/>
        </p:nvSpPr>
        <p:spPr>
          <a:xfrm>
            <a:off x="611280" y="64533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Calibri"/>
                <a:ea typeface="Arial"/>
              </a:rPr>
              <a:t>Zdroj :  MF SR  k 05.06.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TASK FORCE EK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238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b050"/>
                </a:solidFill>
                <a:uFillTx/>
                <a:latin typeface="Calibri"/>
              </a:rPr>
              <a:t>Flexibility, ktoré neboli pre OP ŽP uplatniteľné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Fázovanie malých projekt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egatívny vplyv na čerpanie finančných prostriedk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Reverzné fázov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bsencia vhodných projekt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Finančné nástro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emožnosť použitia prostriedkov KF na finančné nástr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Revízia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šetky relevantné a prínosné revízie v rámci OP ŽP už boli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   uskutočne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Symbol zákazu 2"/>
          <p:cNvGrpSpPr/>
          <p:nvPr/>
        </p:nvGrpSpPr>
        <p:grpSpPr>
          <a:xfrm>
            <a:off x="5175360" y="1584360"/>
            <a:ext cx="1420560" cy="1281240"/>
            <a:chOff x="5175360" y="1584360"/>
            <a:chExt cx="1420560" cy="1281240"/>
          </a:xfrm>
        </p:grpSpPr>
        <p:pic>
          <p:nvPicPr>
            <p:cNvPr id="534" name="Symbol zákazu 2" descr=""/>
            <p:cNvPicPr/>
            <p:nvPr/>
          </p:nvPicPr>
          <p:blipFill>
            <a:blip r:embed="rId1"/>
            <a:stretch/>
          </p:blipFill>
          <p:spPr>
            <a:xfrm>
              <a:off x="5175360" y="1584360"/>
              <a:ext cx="1420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5367240" y="1757520"/>
              <a:ext cx="7128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BlokTextu 4"/>
          <p:cNvSpPr/>
          <p:nvPr/>
        </p:nvSpPr>
        <p:spPr>
          <a:xfrm>
            <a:off x="611280" y="645336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Calibri"/>
                <a:ea typeface="Arial"/>
              </a:rPr>
              <a:t>Zdroj :  MF SR  k 05.06.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TASK FORCE EK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238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b050"/>
                </a:solidFill>
                <a:uFillTx/>
                <a:latin typeface="Calibri"/>
              </a:rPr>
              <a:t>Flexibility, ktoré sú predmetom diskusie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Zálohové faktú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Uplatnenie flexibility je limitované podmienkami nastavenými zo strany 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emožnosť využitia z dôvodu podmienok pôvodného verejného obstarávania (nemožnosť dodatkovania pôvodnej zmluvy medzi prijímateľom a zhotoviteľ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Obdĺžnik 1" descr=""/>
          <p:cNvPicPr/>
          <p:nvPr/>
        </p:nvPicPr>
        <p:blipFill>
          <a:blip r:embed="rId1"/>
          <a:stretch/>
        </p:blipFill>
        <p:spPr>
          <a:xfrm>
            <a:off x="4211640" y="1305000"/>
            <a:ext cx="1238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RIZIKO DECOMMITMENTU V RÁMCI OP ŽP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0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apriek všetkým prijatým opatreniam, ako aj intenzívnym rokovaniam na národnej úrovni ako aj s TASK FORCE EK existuje v rámci OPŽP riziko decommitment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RO OPŽP vzhľadom na štruktúru prijímateľov nemá proces čerpania pod svojím priamym vplyvo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tenciálne ohrozená je suma vo výške 199,58 mil. EUR, pričom hlavnými dôvodmi s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560" indent="-268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ázovanie veľkých projektov (projekty nie je možné zrealizovať do 31.12.201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560" indent="-268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úspory vo verejnom obstarávaní a tým nižšie sumy NFP ako sa predpokladal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560" indent="-268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pokladané nedočerpanie (neplnenie harmonogramov realizácie projektu zo strany prijímateľov, neoprávnené výdav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Snahou RO OP ŽP je riziko decommitmentu zmierniť, čo je však možné iba za súčinnosti prijímateľo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53028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ĎAKUJEM ZA POZORNOSŤ 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FINANČNÝ VÝVOJ ZA OPŽP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20720" y="1413000"/>
            <a:ext cx="8004240" cy="54007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77933c"/>
                </a:solidFill>
                <a:latin typeface="Calibri"/>
              </a:rPr>
              <a:t>Aktuálny stav kontrahovania k 05.06.2015 v rámci OP ŽP (zdroje EÚ v E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Aj v prvom polroku 2015 naďalej pokračoval rast kontrahovania, pričom k 05.06.2015 dosiahol hodnotu 103,79 % alokácie OP Ž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Ako príklad možno uviesť zazmluvnenie veľkého projektu „Aktívne protipovodňové opatrenia“  (prijímateľ – Ministerstvo vnútra SR) v rámci prioritnej osi 2 v sume 53,6 mil. € (2,95% z alokácie OP ŽP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RO OP ŽP teda zazmluvnením prostriedkov z  fondov EÚ na viac ako 100 % vytvoril základný predpoklad na ich vyčerpanie, pričom prijímatelia už v rámci vyhlásených výziev disponovali informáciou, že projekty je nutné zrealizovať do konca roka 2015 a k tomuto sa zaviazali aj v rámci zmlúv o poskytnutie nenávratného finančného príspevku, ktoré uzatvorili s ministerstv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Samotné čerpanie už je v súčasnosti plne v rukách prijímateľov a ich schopnosti bezchybne a včas zrealizovať verejné obstarávanie a následne samotnú realizáciu projektu v súlade so zmluvne stanovenými podmienkami a v stanovenom ča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238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FINANČNÝ VÝVOJ ZA OPŽP</a:t>
            </a:r>
            <a:br>
              <a:rPr sz="3600"/>
            </a:b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STAV KONTRAHOVANIA</a:t>
            </a:r>
            <a:endParaRPr b="1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6" name="Diagram 3" descr=""/>
          <p:cNvPicPr/>
          <p:nvPr/>
        </p:nvPicPr>
        <p:blipFill>
          <a:blip r:embed="rId1"/>
          <a:stretch/>
        </p:blipFill>
        <p:spPr>
          <a:xfrm>
            <a:off x="798480" y="2206800"/>
            <a:ext cx="7381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0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FINANČNÝ VÝVOJ ZA OPŽP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30280" y="14378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77933c"/>
                </a:solidFill>
                <a:latin typeface="Calibri"/>
              </a:rPr>
              <a:t>Aktuálny stav kontrahovania k 05.06.2015 v rámci jednotlivých prioritných osí OP ŽP (zdroje EÚ v €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BlokTextu 5"/>
          <p:cNvSpPr/>
          <p:nvPr/>
        </p:nvSpPr>
        <p:spPr>
          <a:xfrm>
            <a:off x="790560" y="5732640"/>
            <a:ext cx="795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* Čisté kontrahovanie - Údaje uvádzané v tabuľke predstavujú stav z ITMS a zohľadňujú úroveň nedočerpania finančných prostriedkov v rámci už ukončených projekto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BlokTextu 5"/>
          <p:cNvSpPr/>
          <p:nvPr/>
        </p:nvSpPr>
        <p:spPr>
          <a:xfrm>
            <a:off x="7601760" y="5952960"/>
            <a:ext cx="102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ITM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757080" y="2298600"/>
          <a:ext cx="7775640" cy="3395880"/>
        </p:xfrm>
        <a:graphic>
          <a:graphicData uri="http://schemas.openxmlformats.org/drawingml/2006/table">
            <a:tbl>
              <a:tblPr/>
              <a:tblGrid>
                <a:gridCol w="4551480"/>
                <a:gridCol w="1025640"/>
                <a:gridCol w="1025280"/>
                <a:gridCol w="1173240"/>
              </a:tblGrid>
              <a:tr h="12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ná 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ácia 2007-2013 v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sté kontrahovanie*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iel kontrahovania ŠF/KF na alokácii 2007-20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5 v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- Integrovaná ochrana a racionálne využívanie vô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 712 9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9 154 6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8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 - Ochrana pred povodň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070 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 670 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 - Ochrana ovzdušia a minimalizácia nepriaznivých vplyvov zmeny klím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0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 635 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 - Odpadové hospodárst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 86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 027 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5 - Ochrana a regenerácia prírodného prostredia a kraj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756 9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112 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6 - Technická pom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6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312 8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7 - Budovanie povodňového a varovného systé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99 9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69 243 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36 166 2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756 9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 747 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Životné prostred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0 0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88 913 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Obdĺžnik 1"/>
          <p:cNvSpPr/>
          <p:nvPr/>
        </p:nvSpPr>
        <p:spPr>
          <a:xfrm>
            <a:off x="539640" y="76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77933c"/>
                </a:solidFill>
                <a:latin typeface="Calibri"/>
              </a:rPr>
              <a:t>Aktuálny stav čistého kontrahovania k 05.06.20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77933c"/>
                </a:solidFill>
                <a:latin typeface="Calibri"/>
              </a:rPr>
              <a:t>v rámci jednotlivých prioritných osí OP ŽP (zdroje EÚ v €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BlokTextu 5"/>
          <p:cNvSpPr/>
          <p:nvPr/>
        </p:nvSpPr>
        <p:spPr>
          <a:xfrm>
            <a:off x="7935120" y="6410160"/>
            <a:ext cx="102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ITM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Obrázok 8" descr=""/>
          <p:cNvPicPr/>
          <p:nvPr/>
        </p:nvPicPr>
        <p:blipFill>
          <a:blip r:embed="rId1"/>
          <a:stretch/>
        </p:blipFill>
        <p:spPr>
          <a:xfrm>
            <a:off x="614520" y="1411200"/>
            <a:ext cx="8273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PREDPOKLADY KONTRAHOVANIA OP ŽP: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92000" y="1871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Calibri"/>
              </a:rPr>
              <a:t>V rámci kontrahovania OP ŽP je v roku 2015 ešte v pláne zakontrahovať cca 0,26 % z OP ŽP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 u="sng">
                <a:solidFill>
                  <a:srgbClr val="000000"/>
                </a:solidFill>
                <a:uFillTx/>
                <a:latin typeface="Calibri"/>
              </a:rPr>
              <a:t>K ďalšiemu zvýšeniu úrovne kontrahovania dôj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Calibri"/>
              </a:rPr>
              <a:t>ukončením konania o žiadostiach v rámci vyhlásených  výziev, kde ešte nebolo ukončené konanie o žiadosti (+0,26%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ýzva OPŽP-PO4-14-1 (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4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 -  Riešenie problematiky environmentálnych záťaží vrátane ich odstraňovania) z 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22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.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2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.2014</a:t>
            </a: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 s termínom uzatvorenia dňa 07.04.2015 s alokáciou 10 000 000 EUR (zdroj EÚ)                                                             reálny predpoklad zvýšenie úrovne kontrahovania o 2,4 mil. € - 0,13 % z alokác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Výzva 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OPŽP-PO3-14-</a:t>
            </a:r>
            <a:r>
              <a:rPr b="0" lang="sk-SK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4</a:t>
            </a: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 (3.1 – ochrana ovzdušia, 3.2 - znižovanie emisií skleníkových plynov spolu so znižovaním emisií základných znečisťujúcich látok v oblasti výroby tepla, vrátane zmeny palivovej základne) z 22.12.2014 s termínom uzatvorenia  dňa 23.03.2015 s alokáciou 8 580 000 EUR (zdroj EÚ),                                                                                        reálny predpoklad zvýšenie úrovne kontrahovania o 2,4 mil. € - 0,13 % z alokác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Calibri"/>
              </a:rPr>
              <a:t>Celkovo sú zo strany RO pre OP ŽP vytvorené predpoklady pre ďalší nárast úrovne kontrahovania oproti súčasnému stav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f6228"/>
                </a:solidFill>
                <a:latin typeface="Calibri"/>
              </a:rPr>
              <a:t>PREDPOKLADY KONTRAHOVANIA OP ŽP:</a:t>
            </a:r>
            <a:endParaRPr b="1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98" name="BlokTextu 5"/>
          <p:cNvSpPr/>
          <p:nvPr/>
        </p:nvSpPr>
        <p:spPr>
          <a:xfrm>
            <a:off x="7315560" y="6621480"/>
            <a:ext cx="17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ITMS a prognóza R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Obrázok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8087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f6228"/>
                </a:solidFill>
                <a:latin typeface="Calibri"/>
              </a:rPr>
              <a:t>PREHĽAD AKTUÁLNEHO ČERPANIA K 05.06.2015</a:t>
            </a:r>
            <a:endParaRPr b="1" lang="en-US" sz="3600" spc="-1" strike="noStrike">
              <a:solidFill>
                <a:srgbClr val="4f6228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11280" y="2398680"/>
          <a:ext cx="8434440" cy="4178160"/>
        </p:xfrm>
        <a:graphic>
          <a:graphicData uri="http://schemas.openxmlformats.org/drawingml/2006/table">
            <a:tbl>
              <a:tblPr/>
              <a:tblGrid>
                <a:gridCol w="2962080"/>
                <a:gridCol w="863640"/>
                <a:gridCol w="792360"/>
                <a:gridCol w="855360"/>
                <a:gridCol w="790920"/>
                <a:gridCol w="792000"/>
                <a:gridCol w="792000"/>
                <a:gridCol w="586080"/>
              </a:tblGrid>
              <a:tr h="123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ná 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äzok 2007-2013 v 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 ŠF/KF (schválené SŽP znížené o nezrovnalosti) k 31.12.20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 ŠF/KF (schválené SŽP znížené o nezrovnalos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iel čerpania ŠF/KF na záväzku 2007-20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31.12.20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iel čerpania ŠF/KF na záväzku 2007-20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ena v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e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alokác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</a:tr>
              <a:tr h="28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- Integrovaná ochrana a racionálne využívanie vô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 712 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 065 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 063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998 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15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 - Ochrana pred povodň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070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 544 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296 1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751 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 - Ochrana ovzdušia a minimalizácia nepriaznivých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lyvov zmeny klí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026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 302 5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76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 - Odpadové hospodár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 86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 297 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 039 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742 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5 - Ochrana a regenerácia prírodného prostredia a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756 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121 7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82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9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60 7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6 - Technická pom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6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733 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027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94 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161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7 - Budovanie povodňového a varovného systém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 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19 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37 3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69 243 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 640 4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0 426 6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786 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756 9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 630 3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 504 6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74 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Životné prostred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0 0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6 270 8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48 931 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660 4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502" name="BlokTextu 5"/>
          <p:cNvSpPr/>
          <p:nvPr/>
        </p:nvSpPr>
        <p:spPr>
          <a:xfrm>
            <a:off x="7557120" y="659772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MF SR a PJ OP Ž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BlokTextu 2"/>
          <p:cNvSpPr/>
          <p:nvPr/>
        </p:nvSpPr>
        <p:spPr>
          <a:xfrm>
            <a:off x="684360" y="14130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  <a:ea typeface="Arial"/>
              </a:rPr>
              <a:t>Prehľad čerpania po prioritných osiach OP Životné prostredie k 05.06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  <a:ea typeface="Arial"/>
              </a:rPr>
              <a:t>Ide o čerpanie na úrovni MF SR/CO (schválené SŽP znížené o nezrovnalost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  <a:ea typeface="Arial"/>
              </a:rPr>
              <a:t>Údaje sú uvedené za EÚ zdro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POROVNANIE ČERPANIA K 05.06.2015</a:t>
            </a:r>
            <a:endParaRPr b="1" lang="en-US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05" name="BlokTextu 5"/>
          <p:cNvSpPr/>
          <p:nvPr/>
        </p:nvSpPr>
        <p:spPr>
          <a:xfrm>
            <a:off x="7557120" y="659772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alibri"/>
                <a:ea typeface="Arial"/>
              </a:rPr>
              <a:t>Zdroj údajov MF SR a PJ OP Ž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BlokTextu 2"/>
          <p:cNvSpPr/>
          <p:nvPr/>
        </p:nvSpPr>
        <p:spPr>
          <a:xfrm>
            <a:off x="684360" y="1413000"/>
            <a:ext cx="82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Porovnanie čerpania na úrovni MF SR a reálne uhradených žiadostí na úrovni PJ OP Ž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Údaje sú uvedené za EÚ zdro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Calibri"/>
              </a:rPr>
              <a:t>Z pohľadu reálneho čerpania na úrovni RO je čerpanie vyššie o 3,58 % (výdavky boli uhradené avšak ešte neboli deklarované na MF S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280" y="2708280"/>
          <a:ext cx="8505720" cy="3792600"/>
        </p:xfrm>
        <a:graphic>
          <a:graphicData uri="http://schemas.openxmlformats.org/drawingml/2006/table">
            <a:tbl>
              <a:tblPr/>
              <a:tblGrid>
                <a:gridCol w="3116160"/>
                <a:gridCol w="831960"/>
                <a:gridCol w="888840"/>
                <a:gridCol w="876240"/>
                <a:gridCol w="841680"/>
                <a:gridCol w="842760"/>
                <a:gridCol w="576360"/>
                <a:gridCol w="531720"/>
              </a:tblGrid>
              <a:tr h="867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ná 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äzok 2007-2013 v 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 ŠF/KF (schválené SŽP znížené o nezrovnalosti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álne čerpanie na úrovni uhradených platieb z PJ OP Ž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05.06.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 na úrovni RO - zatiaľ nedeklarované na MF 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z aloká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z aloká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z alokác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b084"/>
                    </a:solidFill>
                  </a:tcPr>
                </a:tc>
              </a:tr>
              <a:tr h="19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- Integrovaná ochrana a racionálne využívanie vô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 712 9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 063 6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6 547 0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8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483 4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19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 - Ochrana pred povodňa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070 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296 1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462 4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6 2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 - Ochrana ovzdušia a minimalizácia nepriaznivých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plyvov zmeny klí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 302 5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769 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8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66 6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 - Odpadové hospodárstv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 86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 039 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 726 9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8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687 4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5 - Ochrana a regenerácia prírodného prostredia a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in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756 9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82 5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055 9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3 4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6 - Technická pom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6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027 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213 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5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186 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08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7 - Budovanie povodňového a varovného systém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19 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19 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69 243 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0 426 6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 949 8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523 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08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756 9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 504 6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144 7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8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640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Životné prostre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0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48 931 2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6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14 094 5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163 2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2:16:54Z</dcterms:created>
  <dc:creator>Slováková Zdenka</dc:creator>
  <dc:description/>
  <dc:language>en-US</dc:language>
  <cp:lastModifiedBy>Felcan Róbert</cp:lastModifiedBy>
  <cp:lastPrinted>2015-06-24T15:39:24Z</cp:lastPrinted>
  <dcterms:modified xsi:type="dcterms:W3CDTF">2015-06-24T15:44:23Z</dcterms:modified>
  <cp:revision>159</cp:revision>
  <dc:subject/>
  <dc:title>Prezentácia programu PowerPoint</dc:title>
</cp:coreProperties>
</file>