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6E9-EB59-4920-8ADC-D3301606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F7F-C893-41A5-8F40-B06F0FD8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403-C05E-4507-9BF5-A5F7A65A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1A7-7A10-4307-8E53-91C89C1B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39A8-53F5-44FC-90E6-60F71F24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3CA6-6C55-48B0-B575-FAA2B270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B825-1C5E-4175-97F9-7A93497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E228-7DEA-4547-8536-89E69D9C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3C48-169A-41D4-9112-B9BD6F26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FBCD-C21B-4103-A9B6-E2645F32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2A9B-0F9F-4A7E-8357-4BA92D98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93B-4D0E-4049-A17B-FA5F1C6D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D338-8E5D-464C-B22F-159958E4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F1F4-7372-4827-9CC9-EF231E8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A505-1ECE-4D72-8127-FAF70AFB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E58A-7E82-406C-8702-AF7AC0F8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FA5F-5DFF-4CCF-A9C1-8D28E0B8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C6C-3954-4656-A0B6-BD45D2BD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7A9-D06A-49E1-8C31-3039076F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3CD-CB3F-413B-8055-C8DBA7FD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C81-7ED4-4445-92F8-DD8FBEB5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AFE-42BF-4A12-8943-8DEE064A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D83-5BFF-4DE9-9B26-6A9CE7F4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3BAA-F7B5-46D9-BF2C-C2A5136A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8E2A-CEAA-4568-A44A-A3A3B9121A3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6417-E484-4383-A04F-4DF941AB74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Informácia o predložení veľkého projektu Európskej komisii</a:t>
            </a:r>
            <a:r>
              <a:rPr b="1" lang="sk-SK" sz="2400" spc="-1" strike="noStrike">
                <a:solidFill>
                  <a:srgbClr val="006600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8920" y="1268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803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KK Ružomberok a ČOV Liptovská Teplá, Liptovské Sliač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55280" y="2492280"/>
            <a:ext cx="8388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6600"/>
                </a:solidFill>
                <a:latin typeface="Arial"/>
              </a:rPr>
              <a:t>Cieľom projektu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je zabezpečenie odvádzania a čistenia komunálnych odpadových vôd v regióne Dolného Liptova a dosiahnutie min. 85% napojenosti obyvateľstva na verejnú kanalizáciu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v aglomeráciách Ružomberok, Sliače a Lúčky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a zabezpečenie čistenia odpadových vôd v súlade s požiadavkami smernice Rady č.91/271/EHS a s Nariadením vlády SR č.296/2005 Z. z.  ktorým sa ustanovujú požiadavky na kvalitu a kvantitatívne ciele povrchových vôd a limitné hodnoty znečistenia odpadových vôd a osobitných vô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6600"/>
                </a:solidFill>
                <a:latin typeface="Arial"/>
              </a:rPr>
              <a:t>Merateľné ukazovatele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Dĺžka novovybudovaných kanalizačných sietí               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6 402 + 3 714 =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40 116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Počet zrekonštruovaných Č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1 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Počet EO napojených na novovybudovanú kanalizačnú sieť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5 195 + 535 =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5 730 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Počet EO napojených na zrekonštruovanú Č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                  4 609 + 2 598 = </a:t>
            </a:r>
            <a:r>
              <a:rPr b="1" lang="sk-SK" sz="1600" spc="-1" strike="noStrike">
                <a:solidFill>
                  <a:srgbClr val="0033cc"/>
                </a:solidFill>
                <a:latin typeface="Arial"/>
              </a:rPr>
              <a:t>7 207 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KK Ružomberok a ČOV Liptovská Teplá, Liptovské Sliač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813744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inancovani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kové výdavky projektu s DPH                            26 761 430,76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kové výdavky projektu bez DPH                        22 488 597,28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rávnené náklady pre určenie výšky grantu       20 432 443,12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ýška medzery vo financovaní                                              88,5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nzita pomoci                                                                      84,05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ožadovaný grant z Kohézneho fondu (71,44%)   14 597 402,13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árodné spolufinancovanie (ŠR) (12,61%)               2 576 012,14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árodné spolufinancovanie (žiadateľ) (15,95%)       3 259 028,85 €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KK Ružomberok a ČOV Liptovská Teplá, Liptovské Sliač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8282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alizácia projektu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/2010 – 03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rvalá prevádzk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1.4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hľad schvaľovania dokumen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jektový zá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16.12.2008 – 18.3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Štúdia uskutočniteľnos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30.6.2009 – 7.9.2009 (2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Žiadosť o potvrdenie pomoc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7.12.2009 – 22.3.2010 (2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Žiadosť o NF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7.4.2010 – 30.4.2010 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Zaslanie EK                                4.5.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JAS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aa</cp:lastModifiedBy>
  <dcterms:modified xsi:type="dcterms:W3CDTF">2010-05-26T09:18:12Z</dcterms:modified>
  <cp:revision>93</cp:revision>
  <dc:subject/>
  <dc:title>MONITOROVACÍ VÝBOR 7.5.2008</dc:title>
</cp:coreProperties>
</file>