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90792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5660640" y="-360"/>
            <a:ext cx="119556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7D07-9A4C-497F-A9B4-0A2CDE68B697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79480" cy="1128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664240" y="0"/>
            <a:ext cx="1193760" cy="80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tualiz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tualiz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FD71-09BD-4D48-AFA8-0F5F90D6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588-5FAE-447D-8161-6D9B7F0A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15E-66A0-42F6-B024-2146B1AB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7D49-DB0D-49BE-B138-CF3E7E1F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E33D-F631-4D81-814B-A2BE4427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42FD-4832-40FB-8013-8BEF1A11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56A6-B88D-4982-82EE-CE750FD5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72D1-5F45-4099-BF45-71FB029B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EC73-7F96-4EE8-84ED-2FCFB786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672B-7A20-4058-A257-A2AE22CC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F1FD-5921-4EE8-92CD-3DEF21C2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2C7A-B6E7-4665-B658-817AC4D1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9F18-5CDE-450F-9BA4-DF16AE55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96D3-6FB0-4E92-958B-685FCC38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00E9-5666-4DB9-AAA0-C8D12B9F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2FD3D-7C76-4766-8012-F85C24B8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E92A-7FA2-4D79-B080-1C668617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7A75-5CB2-4111-9F83-25D917F3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A88-B704-4ABB-96F9-EC74EC39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3665-03A1-4EC2-B99D-EAF2A501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FBD-16A1-4029-8F78-30400C89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138-C828-4A15-972B-59D77EF0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6EE-5F57-44CC-B98E-BAFEBB36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B47A-0824-4A01-897F-70086593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E339-0884-4214-9DE1-65650207A19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7BBE-3E7C-4D67-9D37-5369DB6427B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2349360"/>
            <a:ext cx="76312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3300"/>
                </a:solidFill>
                <a:latin typeface="Arial"/>
              </a:rPr>
              <a:t>Aktualizácia indikatívneho zoznamu veľkých projektov</a:t>
            </a:r>
            <a:r>
              <a:rPr b="1" lang="sk-SK" sz="2400" spc="-1" strike="noStrike">
                <a:solidFill>
                  <a:srgbClr val="006600"/>
                </a:solidFill>
                <a:latin typeface="Tahoma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9480" cy="112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58920" y="126828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stvo životného prostredia 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50240" y="0"/>
            <a:ext cx="1193760" cy="803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708360" y="544500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tualizácia indikatívneho zoznamu veľkých projekto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84963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. Aktualizácia indikatívneho zoznamu veľkých projekt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9. apríla 2009 – 4. zasadnutie MV OP Ž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1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veľkých projektov s celkovými odhadovanými nákladmi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1 164 404 168 Eu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3 projekty stiahnuté žiadateľmi (Bardejov, Dolné a Stredné Kysuc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 Aktualizácia indikatívneho zoznamu veľkých projekt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 decembra 2009 – 5. zasadnutie MV OP Ž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veľkých projektov s celkovými odhadovanými nákladmi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980 137 640 Eu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2 projekty stiahnuté žiadateľmi (Banská Bystrica a Starin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. Aktualizácia indikatívneho zoznamu veľkých projekt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6. mája 2010 – 6. zasadnutie MV OP Ž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veľkých projektov s celkovými odhadovanými nákladmi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723 790 218 Eu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katívny zoznam veľkých projektov - aktualizovan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838080" y="2362320"/>
          <a:ext cx="7837560" cy="3477960"/>
        </p:xfrm>
        <a:graphic>
          <a:graphicData uri="http://schemas.openxmlformats.org/drawingml/2006/table">
            <a:tbl>
              <a:tblPr/>
              <a:tblGrid>
                <a:gridCol w="1960560"/>
                <a:gridCol w="1959120"/>
                <a:gridCol w="1959120"/>
                <a:gridCol w="1958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Proje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Odhad. celk.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Aktuálny sta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Predloženie 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Ružombe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2 488 5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.5.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čí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360 9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válená Žo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úl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462 0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válená Žo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úl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va I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080 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omien. Žo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evid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049 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omien. Žo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unajsk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437 8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pomien. Žo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OV s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 966 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válená 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óber 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katívny zoznam veľkých projektov - aktualizovan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900000" y="2349360"/>
          <a:ext cx="7693200" cy="3883320"/>
        </p:xfrm>
        <a:graphic>
          <a:graphicData uri="http://schemas.openxmlformats.org/drawingml/2006/table">
            <a:tbl>
              <a:tblPr/>
              <a:tblGrid>
                <a:gridCol w="2087640"/>
                <a:gridCol w="1758960"/>
                <a:gridCol w="1924200"/>
                <a:gridCol w="1922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Proje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Odhad. celk.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Aktuálny sta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Predloženie 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198 3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válená 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š a Ta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 587 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válená 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tč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62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válená 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mber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ČOV st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0 714 8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Schválená 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December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Trnava-Piešť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1 877 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Schválená 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December 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Hornád-Slan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5 787 6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Schválená 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úch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6 157 8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ripomien. 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8:56:38Z</dcterms:created>
  <dc:creator>maximova</dc:creator>
  <dc:description/>
  <dc:language>en-US</dc:language>
  <cp:lastModifiedBy>aa</cp:lastModifiedBy>
  <dcterms:modified xsi:type="dcterms:W3CDTF">2010-05-26T08:06:04Z</dcterms:modified>
  <cp:revision>92</cp:revision>
  <dc:subject/>
  <dc:title>MONITOROVACÍ VÝBOR 7.5.2008</dc:title>
</cp:coreProperties>
</file>