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9079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60640" y="-360"/>
            <a:ext cx="11955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7BE0-6B1F-452F-8D03-59DA172E04F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64240" y="0"/>
            <a:ext cx="119376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9F6-2AF5-4661-AE10-9B93D8D7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706-093B-4FF5-B207-21F7CD5A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CFFF-5623-4253-8E16-73B4649A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C55-D7F9-4748-A1E3-E919F04F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4D78-D300-4659-A5C4-15B7D23A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0A24-6795-4A90-8085-9F685E76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B17F-57CC-4099-8CD4-D7814707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718D-8E04-4964-9D92-0CB847E7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0E50-79F8-4945-AA79-4204EB6B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1BD-EAB2-4631-8EDB-99C28351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8E0D-17C6-4CE1-B03F-3F55B6C4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E3D-5B59-4EF3-99C4-5C51FD32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F42F-9A19-453B-A574-9F3E6E8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EB5A-6B21-4EBA-B5ED-A0D5C671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B487-0B59-4A7A-8878-EAFF4356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2C9D-A176-4295-BFBF-79FF37D5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669C-3C90-47A3-8B8C-DB293EB0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CBF-C3F3-466A-AEDD-1A256E6C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48F-0681-428E-BC6B-315DF2E3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023-A517-4614-A8C5-27355EC6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AB1-8541-4E8F-B8A2-B1372E8E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922-68EC-4EF6-A6F4-08E180D7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2AE-81E7-4D6F-B699-CCA079DB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251-BE1A-4721-9201-966160BA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DA81-3CE9-48AF-AE37-0EC756E11BF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E518-6F3B-4F77-B9D6-39A7317D29B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3600"/>
            </a:br>
            <a:r>
              <a:rPr b="1" lang="sk-SK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3300"/>
                </a:solidFill>
                <a:latin typeface="Arial"/>
              </a:rPr>
              <a:t>Aktuálny stav implementácie Operačného programu Životné prostredie</a:t>
            </a:r>
            <a:r>
              <a:rPr b="0" lang="sk-SK" sz="36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8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42920" y="1268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80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8000" y="692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jčastejšie dôvody vylúčenia žiadostí o NF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00000" y="2491920"/>
            <a:ext cx="85694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plnenie kritérií formálnej sprá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plnenie kritérií oprávnenosti žiadateľa alebo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reukázanie vysporiadania majetkovo-právnych vzťahov k nehnuteľnosti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doloženie povinných pr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úlad so schémami štátnej pom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plnenie kritérií odborného hodnot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dostatočná výška alok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28000" y="692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hľad čerpania prostriedkov z celkovej alokácie OP Ž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236000" y="594900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v k 1.12.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26920" y="2637000"/>
          <a:ext cx="7952040" cy="302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637000"/>
                    <a:ext cx="795204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6600"/>
                </a:solidFill>
                <a:latin typeface="Arial"/>
              </a:rPr>
              <a:t>Stav implementácie prioritnej osi</a:t>
            </a:r>
            <a:br>
              <a:rPr sz="3200"/>
            </a:br>
            <a:r>
              <a:rPr b="1" lang="sk-SK" sz="3200" spc="-1" strike="noStrike">
                <a:solidFill>
                  <a:srgbClr val="006600"/>
                </a:solidFill>
                <a:latin typeface="Arial"/>
              </a:rPr>
              <a:t>    č.6 - Technická pomoc</a:t>
            </a:r>
            <a:r>
              <a:rPr b="1" lang="sk-SK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99280" y="621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okácia pre Technickú pomoc a prehľad schválených žiadostí o NF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755280" y="4076280"/>
            <a:ext cx="806436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čet schválených žiadostí o NF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MŽP S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SA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ková výška schválených žiadostí o NFP predstavuj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  011 134 E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ŽP – 2 828 737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ŽP SR – 31 182 397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5050080" cy="1422360"/>
        </p:xfrm>
        <a:graphic>
          <a:graphicData uri="http://schemas.openxmlformats.org/drawingml/2006/table">
            <a:tbl>
              <a:tblPr/>
              <a:tblGrid>
                <a:gridCol w="1690920"/>
                <a:gridCol w="1677960"/>
                <a:gridCol w="1681200"/>
              </a:tblGrid>
              <a:tr h="45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okácia v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 6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 576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 176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99280" y="692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oznam schválených žiadostí technickej pomoci pre riadiaci orgán (MŽP SR) a SAŽ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abezpečenie propagácie v programovom období 2007-2013 v rámci OP ŽP (ukončen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abezpečenie propagácie v programovom období 2007-2013 v rámci OP ŽP, II.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chnické zabezpečenie riadenia a implementácie OP 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abezpečenie externých expertných služieb pre OP 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ersonálne zabezpečenie riadenia a implementácie OP 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fundácia osobných nákladov za zamestnancov MŽP SR zapojených do riadenia a implementácie OPŽ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budovanie siete REPIS ako centier prvého kontaktu v regiónoch pre MŽP SR v rokoch 2007-2013 (1.eta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obudovanie siete REPIS ako centier prvého kontaktu v regiónoch pre MŽP SR v rokoch 2007-2013 (2.etap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105264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é použitie finančných prostriedkov v rámci projektov technickej pomoci v oblasti publicity a informova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755640" y="2349000"/>
            <a:ext cx="8229600" cy="431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roba  a odvysielanie 3637 spotov v rámci televíznych staníc (STV, TA3, JOJ, Markíza a regionálne T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ýroba a odvysielanie 509 rozhlasových spot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21 regionálnych školení pre prijímateľ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časť na 4 výstavách (CONECO Bratislava, PRO EKO Banská Bystrica, Agrokomplex Nitra a AQUA Trenčín, na ktorých boli poskytované aktuálne informácie a materiály  o OPŽ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30 infodní a 2 celoslovenské konferencie pre žiadateľ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54080" y="2803680"/>
            <a:ext cx="7392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Ďakujem za pozornosť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99280" y="97992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ýzvy na predkladanie žiadostí o nenávratný finančný príspevok (NFP) v programovom období 2007 - 20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55280" y="2550600"/>
            <a:ext cx="43210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očet vyhlásených výziev k 20.11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3 vyhlás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uzatvor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otvore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Celkový počet schválených žiadostí k 20.11.2009 -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6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uma schválených žiadostí o NFP :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9 789 306 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859280" y="2349360"/>
          <a:ext cx="4176720" cy="3814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349360"/>
                    <a:ext cx="4176720" cy="38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86760" y="7642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ýzvy  zverejnené k 20.11.2009 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 programovom období 2007-201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00000" y="2709720"/>
          <a:ext cx="7848720" cy="33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09720"/>
                    <a:ext cx="7848720" cy="33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3080" y="2207160"/>
            <a:ext cx="8082720" cy="10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ktuálne neuzatvorené výzvy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 súčasnosti sú aktuálne nasledovné výzvy na predkladanie žiadostí o nenávratný finančný príspevok z Operačného programu Životné prostred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62080" y="3357720"/>
          <a:ext cx="7323120" cy="25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3357720"/>
                    <a:ext cx="73231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836640"/>
            <a:ext cx="79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até žiadosti o NFP podľa kraj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900000" y="2492280"/>
          <a:ext cx="7993080" cy="3022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492280"/>
                    <a:ext cx="79930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7447320" y="573336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v k 20.11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86760" y="62136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jaté žiadosti o NFP podľa kraj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26920" y="2349360"/>
          <a:ext cx="7993080" cy="38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9930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04400" y="630792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v k 20.11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86760" y="5482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válené žiadosti o NFP podľa kraj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00000" y="2421000"/>
          <a:ext cx="806472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21000"/>
                    <a:ext cx="80647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520400" y="609192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v k 20.11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86760" y="47664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válené žiadosti o NFP podľa kraj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26920" y="2349360"/>
          <a:ext cx="7848720" cy="40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848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160040" y="645228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v k 20.11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99280" y="621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ionálne aspekt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02080" y="52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02080" y="1136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08560" y="131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08560" y="137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08560" y="392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0856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08560" y="392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2568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704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0856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18320" y="414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08560" y="1324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08560" y="397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0856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08560" y="397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2568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704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0856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18320" y="419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59320" y="95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8137440" cy="4392360"/>
        </p:xfrm>
        <a:graphic>
          <a:graphicData uri="http://schemas.openxmlformats.org/drawingml/2006/table">
            <a:tbl>
              <a:tblPr/>
              <a:tblGrid>
                <a:gridCol w="247320"/>
                <a:gridCol w="1163520"/>
                <a:gridCol w="1002240"/>
                <a:gridCol w="690120"/>
                <a:gridCol w="897120"/>
                <a:gridCol w="1086120"/>
                <a:gridCol w="1050480"/>
                <a:gridCol w="829080"/>
                <a:gridCol w="1171440"/>
              </a:tblGrid>
              <a:tr h="246240">
                <a:tc gridSpan="2"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ón NUTS 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katívne alokácie zo ŠF a KF v € (EÚ zdroj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ška kontrahovaných prostriedko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ška čerpaných prostriedko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 ŠF a KF (EÚ zdroj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 ŠF a KF (EÚ zdroj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z celk. alokácie OP (bez T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z celk. kontrahovania v rámci OP (bez TP, nadregionál. a národných projekto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chýlka kontrahovania od indikatívnej alokácie v OP Ž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z celkového čerpania v rámci OP (bez TP, nadregionálnych a národných projekto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=E/∑ E1...E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=G/∑ G1....G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tislavský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 957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567 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7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 162 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5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navský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9 855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 960 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,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 5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čiansky kraj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 827 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 9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iansky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 720 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 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Žilinský kraj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 656 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 098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67 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skobystrický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 853 2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2 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šovský kraj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3 930 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0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 555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9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0 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šický kra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 635 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1 5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77 4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3 218 4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 453 1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aa</cp:lastModifiedBy>
  <dcterms:modified xsi:type="dcterms:W3CDTF">2009-12-04T07:25:34Z</dcterms:modified>
  <cp:revision>188</cp:revision>
  <dc:subject/>
  <dc:title>MONITOROVACÍ VÝBOR 7.5.2008</dc:title>
</cp:coreProperties>
</file>