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90792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5660640" y="-360"/>
            <a:ext cx="119556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D3D1-A5D6-4DEF-B215-4DE5630C7AD1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79480" cy="1128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664240" y="0"/>
            <a:ext cx="1193760" cy="80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ktualizu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ktualizu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9A45-C5DE-42E2-9F24-4353CBB02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D228-2BDB-4EDE-B13F-5EE367ED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1DB3-C204-4B7A-AEDD-261675828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FDE7-CC12-46D3-B869-F5BE39453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6ACA-1293-4018-953A-161134AE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14AC-8300-4D01-89F4-E22C26F8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0CBF-E8EE-411B-A03F-3216587D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72CF-0FCC-4E9D-8295-02E0B2D9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FD9A-109D-41F9-AF66-5D3C5289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102C-3F43-4FA8-ACBA-8DC350A5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1A94-FE6E-4A3D-BCB3-67452483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D1C0-F755-4CAD-BEA8-90EE12AC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3F74-9532-41B3-822D-8E557ACA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30D4-0FF3-4312-8A30-7FF247CF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04877-9E64-4334-8AFD-D72EE99F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BD47-CA96-421B-91EF-305EE4AA3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C490-DEDD-437A-B3C0-5138DA437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A394-ABAE-44DA-8388-469252E6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E643-789B-48D9-B912-6F302C16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3A32-2E03-4808-930B-F50D9C5A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8A8C-45E1-4DA3-BA2B-5261BD43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606D-FDBC-481F-89A2-3E13EF1A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1BC8-CBCD-4F64-A8B0-F82D32D6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3CBA-EB81-4251-AE76-5E5B8C28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05E5-32C6-41A6-9A4F-41EE1CF01B7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6054-4A3B-4FEB-8B75-649112ECC2C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55640" y="2349360"/>
            <a:ext cx="763128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3300"/>
                </a:solidFill>
                <a:latin typeface="Arial"/>
              </a:rPr>
              <a:t>Aktualizácia indikatívneho zoznamu veľkých projektov</a:t>
            </a:r>
            <a:r>
              <a:rPr b="1" lang="sk-SK" sz="2400" spc="-1" strike="noStrike">
                <a:solidFill>
                  <a:srgbClr val="006600"/>
                </a:solidFill>
                <a:latin typeface="Tahoma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9480" cy="112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258920" y="126828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sterstvo životného prostredia 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950240" y="0"/>
            <a:ext cx="1193760" cy="803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708360" y="5445000"/>
            <a:ext cx="194472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ktualizácia indikatívneho zoznamu veľkých projekto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71280" y="2565000"/>
            <a:ext cx="8172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25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1. Aktualizácia indikatívneho zoznamu veľkých projekt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9. apríla 2009 – 4. zasadnutie MV OP Ž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 veľkých projektov s celkovými odhadovanými nákladmi 1 164 404 168 Eu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3 projekty stiahnuté žiadateľmi (Bardejov, Dolné a Stredné Kysu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. Aktualizácia indikatívneho zoznamu veľkých projekt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 decembra 2009 – 5. zasadnutie MV OP Ž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veľkých projektov s celkovými odhadovanými nákladmi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980 137 640 Eu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katívny zoznam veľkých projektov - aktualizovan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99280" y="0"/>
            <a:ext cx="1944720" cy="57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838080" y="2478240"/>
          <a:ext cx="7693200" cy="4070160"/>
        </p:xfrm>
        <a:graphic>
          <a:graphicData uri="http://schemas.openxmlformats.org/drawingml/2006/table">
            <a:tbl>
              <a:tblPr/>
              <a:tblGrid>
                <a:gridCol w="3846600"/>
                <a:gridCol w="3846600"/>
              </a:tblGrid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Názov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Žiadate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cc"/>
                          </a:solidFill>
                          <a:latin typeface="Arial Black"/>
                        </a:rPr>
                        <a:t>Banská Bystrica - protipovodňové opatren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cc"/>
                          </a:solidFill>
                          <a:latin typeface="Arial Black"/>
                          <a:ea typeface="Arial"/>
                        </a:rPr>
                        <a:t>SVP, š.p. </a:t>
                      </a:r>
                      <a:r>
                        <a:rPr b="0" lang="en-US" sz="1200" spc="-1" strike="noStrike">
                          <a:solidFill>
                            <a:srgbClr val="0033cc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cc"/>
                          </a:solidFill>
                          <a:latin typeface="Arial Black"/>
                        </a:rPr>
                        <a:t>SKK Ružomberok a ČOV Liptovská Teplá,  Liptovské Sliač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cc"/>
                          </a:solidFill>
                          <a:latin typeface="Arial Black"/>
                        </a:rPr>
                        <a:t>Vodárenská spoločnosť Ružomberok, a.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33cc"/>
                          </a:solidFill>
                          <a:latin typeface="Arial Black"/>
                          <a:ea typeface="Arial"/>
                        </a:rPr>
                        <a:t>Podunajsko </a:t>
                      </a:r>
                      <a:r>
                        <a:rPr b="0" lang="sk-SK" sz="1200" spc="-1" strike="noStrike">
                          <a:solidFill>
                            <a:srgbClr val="0033cc"/>
                          </a:solidFill>
                          <a:latin typeface="Arial Black"/>
                          <a:ea typeface="Times New Roman"/>
                        </a:rPr>
                        <a:t>- odkanalizovanie podunajskej</a:t>
                      </a:r>
                      <a:r>
                        <a:rPr b="0" lang="sk-SK" sz="1200" spc="-1" strike="noStrike">
                          <a:solidFill>
                            <a:srgbClr val="0033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k-SK" sz="1200" spc="-1" strike="noStrike">
                          <a:solidFill>
                            <a:srgbClr val="0033cc"/>
                          </a:solidFill>
                          <a:latin typeface="Arial Black"/>
                          <a:ea typeface="Times New Roman"/>
                        </a:rPr>
                        <a:t> časti bratislavského región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cc"/>
                          </a:solidFill>
                          <a:latin typeface="Arial Black"/>
                          <a:ea typeface="Times New Roman"/>
                        </a:rPr>
                        <a:t>Bratislavská vodárenská spoločnosť, a.s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cc"/>
                          </a:solidFill>
                          <a:latin typeface="Arial Black"/>
                        </a:rPr>
                        <a:t>Zásobovanie vodou a kanalizácia oravského regiónu, etapa 2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cc"/>
                          </a:solidFill>
                          <a:latin typeface="Arial Black"/>
                        </a:rPr>
                        <a:t>Oravská vodárenská spoločnosť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pišský a tatranský región - vodovody a kanalizác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odtatranská vodárenská spoločnosť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6600"/>
                          </a:solidFill>
                          <a:latin typeface="Arial Black"/>
                        </a:rPr>
                        <a:t>Zásobovanie vodou, odkanalizovanie a čistenie odpadových vôd okresu Bytč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6600"/>
                          </a:solidFill>
                          <a:latin typeface="Arial Black"/>
                        </a:rPr>
                        <a:t>Severoslovenské vodárne a kanalizácie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33cc"/>
                          </a:solidFill>
                          <a:latin typeface="Arial Black"/>
                        </a:rPr>
                        <a:t>Zásobovanie vodou, odkanalizovanie a čistenie odpadových vôd v okrese Ilava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cc"/>
                          </a:solidFill>
                          <a:latin typeface="Arial Black"/>
                        </a:rPr>
                        <a:t>Považská vodárenská spoločnosť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6600"/>
                          </a:solidFill>
                          <a:latin typeface="Arial Black"/>
                        </a:rPr>
                        <a:t>Zásobovanie a odkanalizovanie okresu Púchov - I. eta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katívny zoznam veľkých projektov - aktualizovan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199280" y="0"/>
            <a:ext cx="1944720" cy="57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838080" y="2421000"/>
          <a:ext cx="7263000" cy="3919320"/>
        </p:xfrm>
        <a:graphic>
          <a:graphicData uri="http://schemas.openxmlformats.org/drawingml/2006/table">
            <a:tbl>
              <a:tblPr/>
              <a:tblGrid>
                <a:gridCol w="4273560"/>
                <a:gridCol w="2989440"/>
              </a:tblGrid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Názov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Žiadate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33cc"/>
                          </a:solidFill>
                          <a:latin typeface="Arial Black"/>
                        </a:rPr>
                        <a:t>Prievidza - sústava na odkanalizovanie a čistenie odpadových vô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cc"/>
                          </a:solidFill>
                          <a:latin typeface="Arial Black"/>
                        </a:rPr>
                        <a:t>Stredoslovenská vodárenská spoločnosť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33cc"/>
                          </a:solidFill>
                          <a:latin typeface="Arial Black"/>
                        </a:rPr>
                        <a:t>Intenzifikácia ČOV a odkanalizovanie v Trenčianskom región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cc"/>
                          </a:solidFill>
                          <a:latin typeface="Arial Black"/>
                        </a:rPr>
                        <a:t>Trenčianske vodárne a kanalizácia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6600"/>
                          </a:solidFill>
                          <a:latin typeface="Arial Black"/>
                        </a:rPr>
                        <a:t>Trnava a Piešťany - dobudovanie kanalizačného systému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6600"/>
                          </a:solidFill>
                          <a:latin typeface="Arial Black"/>
                        </a:rPr>
                        <a:t>Trnavská vodárenská spoločnosť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tarina - úpravňa vody a zdvojenie prívodného potru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ýchodoslovenská vodárenská spoločnosť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Zásobovanie pitnou vodou a odkanalizovanie obcí v mikroregióne Bodv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Zásobovanie pitnou vodou a odkanalizovanie obcí v mikroregióne Hornád - Slane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obudovanie a rekonštrukcia ČOV – sev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Západoslovenská vodárenská spoločnosť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obudovanie a rekonštrukcia ČOV – stre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tuálny stav prípravy veľkých projekto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71280" y="2565000"/>
            <a:ext cx="8172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Štúdie uskutočniteľn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 predlože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 schválenýc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Žiadosti o potvrdenie pomo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predložená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prekonzultovanýc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Predloženie EK – apríl/máj 20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8:56:38Z</dcterms:created>
  <dc:creator>maximova</dc:creator>
  <dc:description/>
  <dc:language>en-US</dc:language>
  <cp:lastModifiedBy>aa</cp:lastModifiedBy>
  <dcterms:modified xsi:type="dcterms:W3CDTF">2009-12-04T09:24:59Z</dcterms:modified>
  <cp:revision>88</cp:revision>
  <dc:subject/>
  <dc:title>MONITOROVACÍ VÝBOR 7.5.2008</dc:title>
</cp:coreProperties>
</file>