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9079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5660640" y="-360"/>
            <a:ext cx="119556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FF2A-9D95-42F6-BF75-FACB1502A346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9480" cy="1128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664240" y="0"/>
            <a:ext cx="1193760" cy="80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tualiz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90E-3163-4AF9-AF52-173D8A4F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A13-9385-4212-8306-9D156146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9DB-31BC-4155-A4FD-43EEC17E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99F-4FE0-4C8B-841C-0AE6B9CA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4FF0-E8B4-4218-8F44-D05384A4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CF20-948D-431C-9FD7-2F8D52DA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C20A-E824-4E92-A9AA-6A98D992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4850-F9B4-4267-95B7-6B0552ED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AA0A-1EB7-439F-BB58-9858A0A9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160C-83F9-449C-9A06-1906D680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64F9-AA34-4218-A269-2D2FC2FA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199-3454-4007-8EE8-A73CEA5A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1DD0-F528-4E35-B2E1-1692C14B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0167-D76F-4082-9303-6008F5C2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E57D-5BCD-4686-AEF5-372EA9C4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1C8D-0270-43B2-95AB-4DA56B97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3992-22C4-48A0-A0BE-9998C718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D5C-76EB-46A0-B5E8-160AC387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DB1-7B52-4E3B-85FF-BC0CD042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9B6-AC96-438F-A10E-625FC04F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728D-F748-480B-9106-0EC40A3A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381-B54B-4638-A3A1-CFF0DF78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F22-6D2F-4A65-809A-8BEF865E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305-AFCE-48AA-A9B6-2E561335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7B29-C1D2-428C-B710-47706479CE2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6BC9-D996-431B-AE52-92460007FC4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2349360"/>
            <a:ext cx="7631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3600"/>
            </a:br>
            <a:r>
              <a:rPr b="1" lang="sk-SK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3300"/>
                </a:solidFill>
                <a:latin typeface="Arial"/>
              </a:rPr>
              <a:t>Aktuálny stav implementácie Operačného programu Životné prostredie</a:t>
            </a:r>
            <a:r>
              <a:rPr b="0" lang="sk-SK" sz="36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8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9480" cy="112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42920" y="1268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sterstvo životného prostredia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50240" y="0"/>
            <a:ext cx="1193760" cy="803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708360" y="544500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8000" y="69264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jčastejšie dôvody vylúčenia žiadostí o NF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00000" y="2491920"/>
            <a:ext cx="856944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plnenie kritérií formálnej sprá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plnenie kritérií oprávnenosti žiadateľa alebo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reukázanie vysporiadania majetkovo-právnych vzťahov k nehnuteľnosti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oloženie povinných pr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úlad so schémami štátnej pom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plnenie kritérií odborného hodnot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dostatočná výška alok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28000" y="69264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hľad čerpania prostriedkov z celkovej alokácie OP ŽP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236000" y="594900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v k 1.12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26920" y="2637000"/>
          <a:ext cx="7952040" cy="302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637000"/>
                    <a:ext cx="795204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5640" y="2349360"/>
            <a:ext cx="7631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00"/>
                </a:solidFill>
                <a:latin typeface="Arial"/>
              </a:rPr>
              <a:t>Stav implementácie prioritnej osi</a:t>
            </a:r>
            <a:br>
              <a:rPr sz="3200"/>
            </a:br>
            <a:r>
              <a:rPr b="1" lang="sk-SK" sz="3200" spc="-1" strike="noStrike">
                <a:solidFill>
                  <a:srgbClr val="006600"/>
                </a:solidFill>
                <a:latin typeface="Arial"/>
              </a:rPr>
              <a:t>    č.6 - Technická pomoc</a:t>
            </a:r>
            <a:r>
              <a:rPr b="1" lang="sk-SK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99280" y="62136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okácia pre Technickú pomoc a prehľad schválených žiadostí o NF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55280" y="4076280"/>
            <a:ext cx="8064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et schválených žiadostí o NF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MŽP S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SAŽ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ková výška schválených žiadostí o NFP predstavuj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  011 134 E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ŽP – 2 828 737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ŽP SR – 31 182 397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492280"/>
          <a:ext cx="5050080" cy="1422360"/>
        </p:xfrm>
        <a:graphic>
          <a:graphicData uri="http://schemas.openxmlformats.org/drawingml/2006/table">
            <a:tbl>
              <a:tblPr/>
              <a:tblGrid>
                <a:gridCol w="1690920"/>
                <a:gridCol w="1677960"/>
                <a:gridCol w="1681200"/>
              </a:tblGrid>
              <a:tr h="459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okácia v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 6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 576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 176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99280" y="69264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oznam schválených žiadostí technickej pomoci pre riadiaci orgán (MŽP SR) a SAŽ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abezpečenie propagácie v programovom období 2007-2013 v rámci OP ŽP (ukončen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abezpečenie propagácie v programovom období 2007-2013 v rámci OP ŽP, II.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chnické zabezpečenie riadenia a implementácie OP Ž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abezpečenie externých expertných služieb pre OP Ž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ersonálne zabezpečenie riadenia a implementácie OP Ž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fundácia osobných nákladov za zamestnancov MŽP SR zapojených do riadenia a implementácie OPŽ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obudovanie siete REPIS ako centier prvého kontaktu v regiónoch pre MŽP SR v rokoch 2007-2013 (1.eta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obudovanie siete REPIS ako centier prvého kontaktu v regiónoch pre MŽP SR v rokoch 2007-2013 (2.eta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105264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lavné použitie finančných prostriedkov v rámci projektov technickej pomoci v oblasti publicity a informova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755640" y="234900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roba  a odvysielanie 3637 spotov v rámci televíznych staníc (STV, TA3, JOJ, Markíza a regionálne T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roba a odvysielanie 509 rozhlasových spo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1 regionálnych školení pre prijímateľ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asť na 4 výstavách (CONECO Bratislava, PRO EKO Banská Bystrica, Agrokomplex Nitra a AQUA Trenčín, na ktorých boli poskytované aktuálne informácie a materiály  o OPŽ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30 infodní a 2 celoslovenské konferencie pre žiadateľ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54080" y="2803680"/>
            <a:ext cx="7392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Ďakujem za pozornosť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99280" y="97992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ýzvy na predkladanie žiadostí o nenávratný finančný príspevok (NFP) v programovom období 2007 - 201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280" y="2550600"/>
            <a:ext cx="43210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očet vyhlásených výziev k 20.11.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 vyhláse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 uzatvore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otvorený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Celkový počet schválených žiadostí k 20.11.2009 -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6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Suma schválených žiadostí o NFP :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9 789 306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859280" y="2349360"/>
          <a:ext cx="4176720" cy="381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349360"/>
                    <a:ext cx="4176720" cy="38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86760" y="7642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ýzvy  zverejnené k 20.11.2009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 programovom období 2007-20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00000" y="2709720"/>
          <a:ext cx="7848720" cy="33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09720"/>
                    <a:ext cx="7848720" cy="33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3080" y="2207160"/>
            <a:ext cx="8082720" cy="10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ktuálne neuzatvorené výzvy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 súčasnosti sú aktuálne nasledovné výzvy na predkladanie žiadostí o nenávratný finančný príspevok z Operačného programu Životné prostred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62080" y="3357720"/>
          <a:ext cx="7323120" cy="257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3357720"/>
                    <a:ext cx="73231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83664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jaté žiadosti o NFP podľa kraj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900000" y="2492280"/>
          <a:ext cx="7993080" cy="3022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492280"/>
                    <a:ext cx="799308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7447320" y="573336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v k 20.11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86760" y="62136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jaté žiadosti o NFP podľa kraj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26920" y="2349360"/>
          <a:ext cx="7993080" cy="38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799308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304400" y="630792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v k 20.11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86760" y="5482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válené žiadosti o NFP podľa kraj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00000" y="2421000"/>
          <a:ext cx="806472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21000"/>
                    <a:ext cx="80647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520400" y="609192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v k 20.11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86760" y="47664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válené žiadosti o NFP podľa kraj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26920" y="2349360"/>
          <a:ext cx="7848720" cy="40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78487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160040" y="645228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v k 20.11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gionálne aspekt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02080" y="523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02080" y="1136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08560" y="131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08560" y="137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08560" y="392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08560" y="414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08560" y="392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25680" y="414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7040" y="414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414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08560" y="414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18320" y="414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08560" y="1324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08560" y="397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08560" y="41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08560" y="397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25680" y="41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7040" y="41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41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08560" y="41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18320" y="41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59320" y="95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8137440" cy="4392360"/>
        </p:xfrm>
        <a:graphic>
          <a:graphicData uri="http://schemas.openxmlformats.org/drawingml/2006/table">
            <a:tbl>
              <a:tblPr/>
              <a:tblGrid>
                <a:gridCol w="247320"/>
                <a:gridCol w="1163520"/>
                <a:gridCol w="1002240"/>
                <a:gridCol w="690120"/>
                <a:gridCol w="897120"/>
                <a:gridCol w="1086120"/>
                <a:gridCol w="1050480"/>
                <a:gridCol w="829080"/>
                <a:gridCol w="1171440"/>
              </a:tblGrid>
              <a:tr h="246240"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ón NUTS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katívne alokácie zo ŠF a KF v € (EÚ zdroj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ška kontrahovaných prostriedko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ška čerpaných prostriedko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 ŠF a KF (EÚ zdroj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 ŠF a KF (EÚ zdroj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z celk. alokácie OP (bez T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z celk. kontrahovania v rámci OP (bez TP, nadregionál. a národných projekto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chýlka kontrahovania od indikatívnej alokácie v OP Ž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z celkového čerpania v rámci OP (bez TP, nadregionálnych a národných projekto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=E/∑ E1...E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=G/∑ G1....G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tislavský kr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 957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567 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 162 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navský kr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9 855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 960 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,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 5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9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nčiansky kraj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 827 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 9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triansky kr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 720 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 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Žilinský kraj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3 656 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 098 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67 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skobystrický kr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 853 2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2 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šovský kraj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3 930 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 555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9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0 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šický kr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 635 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1 5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77 4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3 218 4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 453 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8:56:38Z</dcterms:created>
  <dc:creator>maximova</dc:creator>
  <dc:description/>
  <dc:language>en-US</dc:language>
  <cp:lastModifiedBy>aa</cp:lastModifiedBy>
  <dcterms:modified xsi:type="dcterms:W3CDTF">2009-12-04T07:25:34Z</dcterms:modified>
  <cp:revision>188</cp:revision>
  <dc:subject/>
  <dc:title>MONITOROVACÍ VÝBOR 7.5.2008</dc:title>
</cp:coreProperties>
</file>