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2430-DFD1-403A-9FC5-7C3ECB83C42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AFE-1422-4F9F-A285-C81E23D2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A50-095C-4D3C-BD81-5C17B373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13B-E0DD-406C-8DA2-1395E9A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7A1-B61B-4184-86E1-33CC163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D194-5619-4417-BD06-C9ADCD03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DB8-34A8-441E-A1B6-4110CBB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37E8-2EC7-45ED-AA17-5F27BC7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7384-224A-4263-9041-9CEBF8A8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8926-7F66-4EAB-B618-FFB78A8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51A-77F8-4926-BC50-406ACC66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BBC-0ABE-4595-90CB-14435F4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BE5-FF1E-482A-A59D-8AB240A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92A7-D5F0-4E37-AA4B-2F5AEB1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38A8-BF65-4AC4-B435-A4259DB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5A2-0D86-4914-AEEE-B9B1C876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028B-73B0-4580-8991-DB2DC809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0CC-1A64-4FDE-BC32-549EC95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3EB-F4CF-4D7D-BE8D-A414843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8CE-344C-49AD-918F-5279AE8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FD8-79A0-4F7C-B8F6-D836CC0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591-B556-42BE-A00E-F2B3C57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BFF-7478-4169-82A6-ACE46E4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E5E-3FC3-4486-A028-73A73CE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51B-260D-4B9D-8556-8190562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FFE-BEC3-47A9-A15E-2A8F936ED6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939-9BA3-4CAF-B3A9-8342DB28F0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Aktualizácia indikatívneho zoznamu veľkých projektov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ktualizácia indikatívneho zoznamu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. apríla 2009 – 4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veľkých projektov s celkovými odhadovanými nákladmi 1 164 404 168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 projekty stiahnuté žiadateľmi (Bardejov, Dolné a Stredné Kysu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 decembra 2009 – 5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980 137 640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838080" y="2478240"/>
          <a:ext cx="7693200" cy="40701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ázo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Žiadate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Banská Bystrica - protipovodňové opatre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Arial"/>
                        </a:rPr>
                        <a:t>SVP, š.p. </a:t>
                      </a: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SKK Ružomberok a ČOV Liptovská Teplá,  Liptovské Sliač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Vodárenská spoločnosť Ružomberok, a.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Arial"/>
                        </a:rPr>
                        <a:t>Podunajsko 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- odkanalizovanie podunajskej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 časti bratislavského regió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Bratislavská vodárenská spoločnosť, a.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Zásobovanie vodou a kanalizácia oravského regiónu, etapa 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Orav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pišský a tatranský región - vodovody a kanal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dtatra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Zásobovanie vodou, odkanalizovanie a čistenie odpadových vôd okresu Bytč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Severoslovenské vodárne a kanalizácie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Zásobovanie vodou, odkanalizovanie a čistenie odpadových vôd v okrese Ilav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Považ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Zásobovanie a odkanalizovanie okresu Púchov - I. eta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838080" y="2421000"/>
          <a:ext cx="7263000" cy="3919320"/>
        </p:xfrm>
        <a:graphic>
          <a:graphicData uri="http://schemas.openxmlformats.org/drawingml/2006/table">
            <a:tbl>
              <a:tblPr/>
              <a:tblGrid>
                <a:gridCol w="4273560"/>
                <a:gridCol w="298944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ázo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Žiadate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Prievidza - sústava na odkanalizovanie a čistenie odpadových vô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Stre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Intenzifikácia ČOV a odkanalizovanie v Trenčianskom regió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Trenčianske vodárne a kanalizáci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Trnava a Piešťany - dobudovanie kanalizačného systém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Trnav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arina - úpravňa vody a zdvojenie prívodného potru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ýcho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sobovanie pitnou vodou a odkanalizovanie obcí v mikroregióne Bodv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sobovanie pitnou vodou a odkanalizovanie obcí v mikroregióne Hornád - Slane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obudovanie a rekonštrukcia ČOV – s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pa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obudovanie a rekonštrukcia ČOV – st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uálny stav prípravy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Štúdie uskutočniteľ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predlož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schválený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Žiadosti o potvrdenie po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redložen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prekonzultovaný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dloženie EK – apríl/máj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09-12-04T09:24:59Z</dcterms:modified>
  <cp:revision>88</cp:revision>
  <dc:subject/>
  <dc:title>MONITOROVACÍ VÝBOR 7.5.2008</dc:title>
</cp:coreProperties>
</file>